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EA8-C8D7-44FD-A22D-00436101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585-561B-4D22-9942-6EAD0781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A38-4BAC-4791-87ED-0BDAFDC1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81-3D59-49FB-9C44-9C275B36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58A-7BB1-4DC0-8FBB-48A99E6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669-07A4-40F1-8D3E-35ABDFD8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610-1727-4334-9BB9-096C274F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857-E2A1-42AF-A22A-00886DD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74F-5E51-46AE-89B0-08B069C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A04-7748-4D1D-9CAF-698CFAA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0E3-C26B-40DD-A77F-0A54E04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9CD-139D-451C-A86E-0E57057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A37C-DA8A-46BD-8F99-397DB97C5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sites.harvard.edu/icb/icb.do?keyword=datawise&amp;pageid=icb.page385820&amp;pageContentId=icb.pagecontent800691&amp;state=maximiz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stract-design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gh School Principa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fessional Learning Community</a:t>
            </a:r>
            <a:br>
              <a:rPr sz="4000"/>
            </a:b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What story does the data t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Heather Davis Schmidt, Ed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issoula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ebruar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bluewave-white-backgrounds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27296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s for today’s mee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questions abou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 a shared understanding of what we see in the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a priority question to which we are committed to investi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2039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679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9251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388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rt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8520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ummer-time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Wise Proj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ard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Excel and Power Point Tuto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ND THEM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55:33Z</dcterms:created>
  <dc:creator>HD</dc:creator>
  <dc:description/>
  <dc:language>en-US</dc:language>
  <cp:lastModifiedBy>HD</cp:lastModifiedBy>
  <dcterms:modified xsi:type="dcterms:W3CDTF">2012-02-15T14:29:54Z</dcterms:modified>
  <cp:revision>8</cp:revision>
  <dc:subject/>
  <dc:title>Slide 1</dc:title>
</cp:coreProperties>
</file>